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can.ca/english/Subjects/tabcon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Organizational Mark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R11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aracteristics of Organizational Buyers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buying objective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of organizations are ver rational and specific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normal objective is to reduce cost while maximizing prof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aracteristics of Organizational Buyers (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Buying Criteria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is very well known and adhered to by organiz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erates within the minimum cost/maximum revenue framework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Common criteria include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Pric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delivery tim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echnical capabilit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arranti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past performanc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production facilities &amp; capacit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aracteristics of Organizational Buyers (5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ize of the order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that organizational buyers make is usually lar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almart buys 5000 pairs of shoes from Terra Sho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You (a consumer) buy only one pai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haracteristics of Organizational Buyers (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Buyer and Seller usually are involved in extensive negotiation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before doing a de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must be a good relationship between the two part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fter there is a reciprocal relationship where a buyer buys from a supplier and in return sells to that supplier.  This is known a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Reciprocity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haracteristics of Organizational Buyers (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ften times in large organizations there is a specific department responsible for all of the organizations purchases.  This is the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Buying Cent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oles in the Buying Cent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455840" indent="-207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Users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- use the product being purchas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455840" indent="-207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Influencers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 - affect the buying decision in some wa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455840" indent="-207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Buyer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 -have the formal authority to buy products on behalf of the organizatio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455840" indent="-207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Deciders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 - formal &amp; informal authority to approve purchas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3" marL="1455840" indent="-207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Gatekeepers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 - may have no formal authority but control the flow of informatio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Stages on the Organizational Buying Deci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Note that the stages in the org. buying decision are the same as the consumer purchase deci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only difference is in the type and degree of analysis of information in the decision making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sic Types of Buying Situ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traight rebu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ame product repurchased from a existing supplier - little effort in decision making - often an automatic decision - very limited ris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difyed rebu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 slight modification is made to what otherwise would be a standard rebuy.  More analysis involved in the decision - medium ris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ew bu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 first time buy - a great deal of analysis involved in the decision - a great deal of risk to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Keys to Marketing more Effectively towards Organizational Buy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Understand the buyers/sellers need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and meet the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et on the bidders lis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so that you are eligible to sell to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Contact the right people in the buying center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who have the authority to buy from you or the power to influence the decision to buy from yo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vide a quality product and service - keep your promises -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Maximize valu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o the custom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Video(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llanger: An industrial Romance - NFB, 198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llanger promo video - Bombardier Inc., 199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Ques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did Canadair market the Callanger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did the Challanger offer value to its customers/owners.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Organizational Markets Defin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Organizational Markets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Organizations that buy products and servic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for either their own u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or to use in a product that they make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or to resell to individuals, or other organization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or to provide a public good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libri"/>
              </a:rPr>
              <a:t>The Three Organizational Market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Industrial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These organizations buy the product and in some way reprocess it before reselling it to the next buy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E.g. Stelco sells rolled steel to GM, GM stamps it into a body part for the Venture minivan, which is in-turn sold to you through your GM deal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libri"/>
              </a:rPr>
              <a:t>The Three Organizational Market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Reseller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The organization buys the product and then resells it relatively unchanged. (no reprocessing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E.g. Sobey’s will buy milk from Central Dairies.  Sobey’s resells the milk to custom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libri"/>
              </a:rPr>
              <a:t>The Three Organizational Markets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Governmen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Federal, Provincial and Municipal governments purchase products and services and use them for their constitue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E.g. The town of Buchans buys a new Cat 930 loader.  (The Town taxpayers will be paying for this unit). That machine is fitted with a snowblade and used to plough the towns roads (a public service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Getting Industrial Buyers and Sellers Together - The NAICS (SIC Code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0032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e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atcan.ca/english/Subjects/Standard/tabcon.ht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Standard Industrial Classification system, now updated and called NAICS (North American Industrial Classification System), is designed to connect buyers and seller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Uses a Coding system so that  a particular type of business gets a particular cod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cilitates buyer seller recognition and 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The limitations of the Industrial Cod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wo key limita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de is not issued to a business if they are the only one of that type of business in a given region.  This company is then not coded and will not reep the intended benefits of the syste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nly one code is issued per business.  If your business is in more than one business only one of the businesses types are reflected in the co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aracteristics of Organizational Buyer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mand for their products by other organizations is derived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from consumer demand for end products. E.g Stelco will not sell a much steel to GM if consumer demand for cars drop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aracteristics of Organizational Buyer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There are fewer organizational buyer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than there are end consumer buy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.g.  There are 30 million people in Canada -- all potential buyers.  However there are fewer organizations in the marketplace -- fewer organizational buy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7:15:48Z</dcterms:created>
  <dc:creator>Debbie Vincent</dc:creator>
  <dc:description/>
  <dc:language>en-US</dc:language>
  <cp:lastModifiedBy>Tilley, Paul (C'ville)</cp:lastModifiedBy>
  <dcterms:modified xsi:type="dcterms:W3CDTF">2011-10-31T17:05:06Z</dcterms:modified>
  <cp:revision>9</cp:revision>
  <dc:subject/>
  <dc:title>Organizational Mark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